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173-D010-482F-9D93-20A3A51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900-2679-4C27-92D2-897F990B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FDA-19E9-46CC-871B-8AAE69C6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765-4732-43E7-9421-52113C47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819-1FA3-48AA-8F9D-B936900F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8C5-BF54-4450-8D65-5C450DC6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3E7-2C88-4C2B-A8AF-26251DCA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8BB-4C08-4DC1-8077-E40DD62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27B-9643-44E6-ACE1-0A3335F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FA8-D05F-49FA-AB21-D6B7F1D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A80-8978-4CD0-BAC3-A757077A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DA2-50DF-41FB-8DC7-E851D528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A57F-76FF-41B2-9D42-3BCE53E1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94"/>
                <a:gd name="adj2" fmla="val 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</a:t>
            </a: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y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mber Blake &amp;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Smith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yadh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city of Saudi Ara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ca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place of Mecca, a spiritual hub of Islamic religious beliefs and fa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52280"/>
            <a:ext cx="7848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laces to visit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372120" cy="2414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45212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, bordering the Persian Gulf and the Red Sea, north of Y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roleum, natural gas, iron ore, gold,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ve coastlines on Persian Gulf and Red Sea provide great leverage on shipping (especially crude oil) through Persian Gulf and Suez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5333760"/>
            <a:ext cx="8763120" cy="1523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he oil-enriched economy has brought some 5.6 million resident foreigners—mostly from Arab states or South A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13 dams within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152280"/>
            <a:ext cx="609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Land</a:t>
            </a:r>
            <a:endParaRPr b="0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4419720"/>
            <a:ext cx="67053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ly uninhabited, sandy 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sh, dry desert with great temperature extre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4114800"/>
            <a:ext cx="5715000" cy="2057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require little water and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small herbs and shru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Arabia is mostly a des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-2292120" y="2825640"/>
            <a:ext cx="6089400" cy="1047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Vegetatio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2438280"/>
            <a:ext cx="7162560" cy="2438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di Arabia was an absolute monarchy until 199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which time the Saud royal family introduce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's first constitution. The legal system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sharia (Islamic law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: 27,601,0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04920"/>
            <a:ext cx="5333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251000">
            <a:off x="-4680" y="133200"/>
            <a:ext cx="6468840" cy="5967720"/>
          </a:xfrm>
          <a:prstGeom prst="irregularSeal2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founded Islam ther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location of the two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grimage cities of Mec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ed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scovered oil there in 193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4647600" y="3047760"/>
            <a:ext cx="693432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Histor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1926800">
            <a:off x="1971360" y="380520"/>
            <a:ext cx="6480000" cy="5616720"/>
          </a:xfrm>
          <a:prstGeom prst="cloudCallout">
            <a:avLst>
              <a:gd name="adj1" fmla="val -70476"/>
              <a:gd name="adj2" fmla="val -3668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xport Pro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etroleum and manufactured articl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udi Riyal (SR) is the unit of currency in the Kingdom of Saudi Arab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-2209680" y="289548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Econo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33720" y="685800"/>
            <a:ext cx="472428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90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rial Black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07732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ditional clothing for men and women is the Th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loose, long-sleeved, ankle-length gar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bes worn in summer are generally whit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cot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bes worn in winter are generally darker in col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w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foods like dat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t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lat bread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ik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read from the southwes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country)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way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spice blen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language is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Arabia’s main religion is Isl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45:20Z</dcterms:created>
  <dc:creator>emilymsmith</dc:creator>
  <dc:description/>
  <dc:language>en-US</dc:language>
  <cp:lastModifiedBy>McFaddeR</cp:lastModifiedBy>
  <dcterms:modified xsi:type="dcterms:W3CDTF">2009-03-16T13:12:20Z</dcterms:modified>
  <cp:revision>16</cp:revision>
  <dc:subject/>
  <dc:title>Slide 1</dc:title>
</cp:coreProperties>
</file>